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2B6-45F6-4129-A16B-F903F16A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6A0-9003-4C77-926B-3128BDCD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68C-A301-4DEC-AEA7-5C515FE7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60A-C9A5-44DC-A896-B049F8CC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8A8-9C8A-42C6-B21C-7BAD272A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40A4-C7E4-4CC4-BA21-A0AB00C7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69CE-81CE-4CAF-8899-FD902256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AEA-D6A1-4B4E-98B5-E6C0AEE9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D58-92AB-4705-9082-2AD437AB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9366-767E-4458-88CD-1F3BF6DA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756-DFCB-4FDA-BD6E-9161C0D1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CF1-6EA8-471E-BDD8-8088D63B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E25E-41CF-4DD3-B9BA-2A03D25D1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08:11:58Z</dcterms:created>
  <dc:creator>Grupo Editorial</dc:creator>
  <dc:description/>
  <dc:language>en-US</dc:language>
  <cp:lastModifiedBy>Grupo Editorial</cp:lastModifiedBy>
  <dcterms:modified xsi:type="dcterms:W3CDTF">2001-09-28T08:15:58Z</dcterms:modified>
  <cp:revision>1</cp:revision>
  <dc:subject/>
  <dc:title>Sin título de diapositiva</dc:title>
</cp:coreProperties>
</file>